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2A1A-1917-45FB-AF6C-DF1C52B39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4C21-1561-4150-9A16-6B35B74E0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F112-512E-4D19-A131-62C898618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4F0C-27C9-46E2-B69F-86F965F04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FF065-C2D0-46EB-A48F-FCBF92080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A75CA-73BC-4AEB-A17D-625EB9D57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57EE2-9A45-4BF9-8CE7-A5FB346D0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2F4AB-5300-402D-9763-D22EF3F1C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F108F-36FF-403F-AD69-6B75A10E5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2C1C2-CC1D-4A2C-8846-CF4EEFE8F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7CD82-F1FF-4AB9-B66E-EAF5E50F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28A4-F1C0-45CA-BBE3-531E2BDAF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B56A3-BA27-4EFC-A74A-DECB28FD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E6BD5-AA4A-4979-8165-E2250F94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683E1-843E-46EF-8DB1-C14782386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CF750-CC0F-4229-A26E-DDD069B3A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89D9F-7286-49D6-9F66-6E811E92E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73198-CEDB-49A6-B64E-AD24AD0B9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38A26-20A3-4800-934B-47D5857E3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4539F-CAFE-4682-9DD1-14B494047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9A863-E8BA-41C9-B134-957B09CAD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49D84-19C8-491D-A4F1-6AECFBCA1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5B10-7607-410A-8670-7F669105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1188A-8AA1-4DA1-A269-A32F69F3B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39ACB-4021-4C22-9BE6-27EC1F68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7BC12-B1AF-4508-8D5D-037B9BED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623DB-12EB-46C9-BC95-EB771319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B6B01-EB2A-4681-BFB8-87A45A54A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0E96D-987B-4DBA-B7EE-8FC40B7E4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4A24F-C145-43CC-AB19-CB5523733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AB014-4E47-40DA-9AF6-6FEB654C8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EF3FF-490F-46B5-B19C-17C7E179B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F814F-2C5E-4166-9F66-FDB82DC93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7A7A-0A0A-4780-9B63-7D6C6E52A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0271A-197B-46CF-9634-A9E7CE6E7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EF245-82E4-4742-9F68-49A2C80A3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1E24E-F864-43F4-9F2D-803B3BA42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BDFC8-B878-4FED-872A-1D9DD622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D691C-FF23-47DF-8E6F-5063A4E9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1066B-AB29-41BC-B56E-197010E8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6E120-0854-41FA-BA91-90860FAF6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C3B44-38EF-449E-8DDD-B2A37A166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F3D0E-1BFA-47EB-8EB0-C344D7AA3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5EAE8-166E-4136-B775-174B2F8DC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B533-AF48-497E-9B91-ACB69767E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506B0-3BA7-4CD6-95D8-9ABE28406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68123-8B4A-4D5E-B3A7-C4312F423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01DFD-1C01-4309-92B9-A932F52F2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CE32C-8ED5-4AD6-98CD-A9E2E28B0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C3894-BB7A-4B24-9DCE-950F14F4D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992AF-075D-4D78-A422-3C74B252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1D57A-9265-4BE7-B77D-E1258991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67C8F-CDB4-46F7-A285-FF52D80E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AFA51-6654-45CE-9993-BC3DA6504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86CC9-DCEB-4A34-8A22-4836EEE78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D706-DAAD-4BE4-95AB-F09815C00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E3F4E-59F2-4326-9F2F-B9A1DF872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F9E3A-A808-400B-8C34-9AE302761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ED5C5-DD8D-460C-8C76-DF874E516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BBC3A-93CE-4F17-9743-DDA53D067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D52E9-2FAA-4CA5-9146-80E418C8A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41BAC-741C-4B7D-9F5A-E6A013E0F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AE19F-1317-425C-9A12-98293E69C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1FE31-7873-4516-B136-75557101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1CF8B-6687-4E92-9042-7E9DFC89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A80C7-981A-4994-80BC-9E858D68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C12B-24D2-464A-B5F2-A8A1AFEA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0AD5AA-8351-415A-AA2E-43CEF2451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72CB1-0D79-479A-9E29-5A8516AF0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1B75F1-A5F7-4985-A294-B9B8A4EAD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CA397-1A37-4C6D-B1E0-DAAEC3909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EA14B-2B78-47D8-A610-7C96D888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AB809-266E-43B0-A7E4-BC418F687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A35880-3C0B-4E16-87FA-3981E7197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18E15-239B-459A-B939-5919FFEDA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DA6404-DC6F-47F3-B917-098733FBB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6CBBC2-A363-44C5-B6BA-0259D03A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2308-831E-4C4C-A431-6A6DFE59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4C7545-B484-4292-AF75-6DDE1074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34E5E-D0CB-4FEB-BC75-142A14C0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2C33D-5D1A-4289-B6D1-80D8815CB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50143F-AA6B-4A40-B470-71DC4AAA1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E9AF0F-8E2C-46E1-84F6-5E89A8150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51FC-DE0D-4C3C-8A92-E6FE4615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6ffff">
              <a:alpha val="33000"/>
            </a:srgbClr>
          </a:solidFill>
          <a:ln cap="rnd" w="3240">
            <a:solidFill>
              <a:srgbClr val="aedbe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1ffff"/>
            </a:solidFill>
            <a:miter/>
          </a:ln>
          <a:effectLst>
            <a:outerShdw dist="12600" dir="5400000" blurRad="0" rotWithShape="0">
              <a:srgbClr val="9bb8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5bc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bcc2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5bc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466F3-C791-4670-8A1A-0AD211EA1D7C}" type="slidenum">
              <a:rPr b="0" lang="en-US" sz="1200" spc="-1" strike="noStrike">
                <a:solidFill>
                  <a:srgbClr val="95bc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6ffff">
              <a:alpha val="33000"/>
            </a:srgbClr>
          </a:solidFill>
          <a:ln cap="rnd" w="3240">
            <a:solidFill>
              <a:srgbClr val="aedbe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1ffff"/>
            </a:solidFill>
            <a:miter/>
          </a:ln>
          <a:effectLst>
            <a:outerShdw dist="12600" dir="5400000" blurRad="0" rotWithShape="0">
              <a:srgbClr val="9bb8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0c61ae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5bc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bcc2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5bc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C871B-6DD4-4D35-A963-50FAF0BE49B0}" type="slidenum">
              <a:rPr b="0" lang="en-US" sz="1200" spc="-1" strike="noStrike">
                <a:solidFill>
                  <a:srgbClr val="95bc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0c61ae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5bc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bcc2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5bc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E49F6-7EE3-4163-9F17-633BA7BDFEA1}" type="slidenum">
              <a:rPr b="0" lang="en-US" sz="1200" spc="-1" strike="noStrike">
                <a:solidFill>
                  <a:srgbClr val="95bc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5bc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bcc2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5bc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0E9E4-31FD-4677-B551-75B596DE7B29}" type="slidenum">
              <a:rPr b="0" lang="en-US" sz="1200" spc="-1" strike="noStrike">
                <a:solidFill>
                  <a:srgbClr val="95bc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5bc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bcc2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5bc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A12CA-85FB-475D-AA3C-66AEF2AC3247}" type="slidenum">
              <a:rPr b="0" lang="en-US" sz="1200" spc="-1" strike="noStrike">
                <a:solidFill>
                  <a:srgbClr val="95bc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5bc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bcc2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5bc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C2E3C-CF69-466F-B8BC-44BEAF7F9561}" type="slidenum">
              <a:rPr b="0" lang="en-US" sz="1200" spc="-1" strike="noStrike">
                <a:solidFill>
                  <a:srgbClr val="95bc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3f4fc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bf5f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5bc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bcc2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5bc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9150C-C120-40B6-ACCC-87AA631ACF06}" type="slidenum">
              <a:rPr b="0" lang="en-US" sz="1200" spc="-1" strike="noStrike">
                <a:solidFill>
                  <a:srgbClr val="95bc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Gill Sans MT"/>
              </a:rPr>
              <a:t>Chapter 13: pages 386-389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5562720"/>
            <a:ext cx="740700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e56"/>
                </a:solidFill>
                <a:latin typeface="Gill Sans MT"/>
              </a:rPr>
              <a:t>By: Gabby Bloom, Claire Fishman, Casey Lee, and Laurel McKerna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0" name="Picture 5" descr="http://www2.chemistry.msu.edu/faculty/reusch/virttxtjml/Images/boltz1.gif"/>
          <p:cNvPicPr/>
          <p:nvPr/>
        </p:nvPicPr>
        <p:blipFill>
          <a:blip r:embed="rId1"/>
          <a:stretch/>
        </p:blipFill>
        <p:spPr>
          <a:xfrm>
            <a:off x="1981080" y="1905120"/>
            <a:ext cx="54579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Gill Sans MT"/>
              </a:rPr>
              <a:t>Gas Pressure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Gas pressure: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result of simultaneous collisions of billions of rapidly moving particles in a gas with an objec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x. Hairspray (aerosol can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Vacuum: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An empty space with no particles and therefore, no pressur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tmospheric Pressure: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collision of atoms and molecules with ai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creases as elevation increas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Gill Sans MT"/>
              </a:rPr>
              <a:t>Barometer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easures atmospheric pressur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height of the mercury column in the tube depends on the pressure exerted by particles in the air colliding with the surface of the mercury in the dish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5" name="Picture 5" descr="http://0.tqn.com/d/weather/1/0/-/1/-/-/Barometer.gif"/>
          <p:cNvPicPr/>
          <p:nvPr/>
        </p:nvPicPr>
        <p:blipFill>
          <a:blip r:embed="rId1"/>
          <a:stretch/>
        </p:blipFill>
        <p:spPr>
          <a:xfrm>
            <a:off x="4038480" y="4267080"/>
            <a:ext cx="160020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Gill Sans MT"/>
              </a:rPr>
              <a:t>Units of Pressure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Pascal: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tandard unit of pressur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tandard atmosphere: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pressure required to support 760mm of mercury in a mercury barometer 25 degrees Celsiu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8" name="Picture 2" descr="http://www.ucolick.org/~bolte/AY4_00/week6/gas_pressure.gif"/>
          <p:cNvPicPr/>
          <p:nvPr/>
        </p:nvPicPr>
        <p:blipFill>
          <a:blip r:embed="rId1"/>
          <a:stretch/>
        </p:blipFill>
        <p:spPr>
          <a:xfrm>
            <a:off x="3429000" y="3886200"/>
            <a:ext cx="491508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Gill Sans MT"/>
              </a:rPr>
              <a:t>Kinetic Energy and Temperature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Kinetic Energy: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t is the energy an object in mo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Kinetic Theory: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ll matter consist of tiny particles that are constantly in mo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Kinetic energy is directly related to heat therefore the more heat there is the more energy there is and vice versa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. More energy= more motion= higher tempera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6b8d"/>
                </a:solidFill>
                <a:latin typeface="Gill Sans MT"/>
              </a:rPr>
              <a:t>Average Kinetic Energy and Kelvin Temperature</a:t>
            </a:r>
            <a:endParaRPr b="0" lang="en-US" sz="39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Kelvin temperature scale reflects the relationship between temperature and average kinetic energ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e Kelvin temperature of a substance is directly proportional to the average kinetic energy of the particles of the substanc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67960" indent="-22392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. The particles of helium gas at 200K have twice the average kinetic energy as the particles in helium at 100K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5T13:52:06Z</dcterms:created>
  <dc:creator>14cfishman</dc:creator>
  <dc:description/>
  <dc:language>en-US</dc:language>
  <cp:lastModifiedBy>14cfishman</cp:lastModifiedBy>
  <dcterms:modified xsi:type="dcterms:W3CDTF">2012-04-26T14:01:00Z</dcterms:modified>
  <cp:revision>8</cp:revision>
  <dc:subject/>
  <dc:title>Chapter 13: pages 386-389</dc:title>
</cp:coreProperties>
</file>